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9FB-7107-4C98-B2B3-836F88FD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0C7-37AE-447A-9068-A8AE02DB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DBA-707A-4168-B4D5-FC00839D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B93-2C13-4955-8334-DAB402D0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3CC-EB95-42B0-A79B-403E7D76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FF6-F9DE-4CFD-A041-BE10E67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A1B-BE3E-4D5A-925B-4F36E1D8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D2C-FC58-4AA1-BC93-2BE12580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056-9BA3-469D-8840-55998D9B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DFE-12BF-46E3-BE29-8EA0A4AA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9B5-204B-47A4-B221-4875110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671-CDDE-4829-A35A-3FC099A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C450-10AA-4A5B-8385-8A1380911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3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Properties of Ex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219400"/>
            <a:ext cx="8153280" cy="166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523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ultiplying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028960"/>
            <a:ext cx="8610480" cy="2466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56386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9907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:  Tell whethe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wic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9302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839080" cy="30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5257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1600200" cy="49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43200" y="1676520"/>
            <a:ext cx="2057400" cy="57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486400" y="1676520"/>
            <a:ext cx="160020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2096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51460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286000" cy="54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0958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orking with Scientific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8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6782040" cy="316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03396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4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ultiplication Properties of Ex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8839080" cy="172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16765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ising a Power to a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7620120" cy="113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5943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179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077320" cy="1181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ising a Product to a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4:53:24Z</dcterms:created>
  <dc:creator>Susannah Graham</dc:creator>
  <dc:description/>
  <dc:language>en-US</dc:language>
  <cp:lastModifiedBy>Susannah Graham</cp:lastModifiedBy>
  <dcterms:modified xsi:type="dcterms:W3CDTF">2009-08-04T22:10:59Z</dcterms:modified>
  <cp:revision>3</cp:revision>
  <dc:subject/>
  <dc:title>Lesson 8.3 Multiplication Properties of Exponents</dc:title>
</cp:coreProperties>
</file>